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A1D-8E8D-441E-A164-5199DEFA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0B2-4DDF-4B6C-BCC2-1FE7FA94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00F-FBAF-48A2-9456-70A06221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2CBD-D7A9-48F6-BCB4-5C85B926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C79-6C52-4F67-8F01-644DEB1F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892-F0DD-45F9-B7D9-B4EE2D5A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89B2-C18A-4B62-A8DF-1BC53980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CE76-6F5C-48D8-A05D-45293BB9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B69-AC60-4D4E-A880-3872F4EE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D76-5488-49F9-86A3-139D08DF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FE2-2D5F-446C-9278-DF4DC576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7B7-6A7F-4F79-B82A-9F312EF6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1A1B-F914-41FA-AD6E-500D1EE9D7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2" action="ppaction://hlinksldjump"/>
          </p:cNvPr>
          <p:cNvSpPr/>
          <p:nvPr/>
        </p:nvSpPr>
        <p:spPr>
          <a:xfrm>
            <a:off x="1476360" y="3716280"/>
            <a:ext cx="3311640" cy="1297080"/>
          </a:xfrm>
          <a:custGeom>
            <a:avLst/>
            <a:gdLst>
              <a:gd name="textAreaLeft" fmla="*/ 414000 w 3311640"/>
              <a:gd name="textAreaRight" fmla="*/ 2898000 w 3311640"/>
              <a:gd name="textAreaTop" fmla="*/ 324360 h 1297080"/>
              <a:gd name="textAreaBottom" fmla="*/ 97308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zes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516720" y="765000"/>
            <a:ext cx="143028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haan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588000" y="836640"/>
            <a:ext cx="1422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hoek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516720" y="765000"/>
            <a:ext cx="143496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hut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516720" y="692280"/>
            <a:ext cx="14223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kaas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88000" y="836640"/>
            <a:ext cx="144468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kam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588000" y="765000"/>
            <a:ext cx="142236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kar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516720" y="765000"/>
            <a:ext cx="143028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</a:rPr>
              <a:t>o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boek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516720" y="836640"/>
            <a:ext cx="144000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kok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588000" y="692280"/>
            <a:ext cx="14400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8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haas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88000" y="765000"/>
            <a:ext cx="1444680" cy="14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96000" y="3141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16720" y="907920"/>
            <a:ext cx="144000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kus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588000" y="765000"/>
            <a:ext cx="144936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516720" y="765000"/>
            <a:ext cx="144000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zus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588000" y="765000"/>
            <a:ext cx="142740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som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588000" y="765000"/>
            <a:ext cx="1435320" cy="14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500"/>
                            </p:stCondLst>
                            <p:childTnLst>
                              <p:par>
                                <p:cTn id="62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tak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588000" y="692280"/>
            <a:ext cx="144000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vos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588000" y="765000"/>
            <a:ext cx="144000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5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7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9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haak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588000" y="765000"/>
            <a:ext cx="143532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285264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516720" y="765000"/>
            <a:ext cx="1417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500"/>
                            </p:stCondLst>
                            <p:childTnLst>
                              <p:par>
                                <p:cTn id="742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wijn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588000" y="836640"/>
            <a:ext cx="14446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7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500" spc="-1" strike="noStrike">
                <a:solidFill>
                  <a:srgbClr val="000000"/>
                </a:solidFill>
                <a:latin typeface="Arial"/>
              </a:rPr>
              <a:t>wip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588000" y="765000"/>
            <a:ext cx="14353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1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bos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588000" y="765000"/>
            <a:ext cx="14306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mus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516720" y="76500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zak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588000" y="76500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"/>
                            </p:stCondLst>
                            <p:childTnLst>
                              <p:par>
                                <p:cTn id="85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1476360" y="3716280"/>
            <a:ext cx="3311640" cy="1297080"/>
          </a:xfrm>
          <a:custGeom>
            <a:avLst/>
            <a:gdLst>
              <a:gd name="textAreaLeft" fmla="*/ 414000 w 3311640"/>
              <a:gd name="textAreaRight" fmla="*/ 2898000 w 3311640"/>
              <a:gd name="textAreaTop" fmla="*/ 324360 h 1297080"/>
              <a:gd name="textAreaBottom" fmla="*/ 97308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endshow"/>
          </p:cNvPr>
          <p:cNvSpPr/>
          <p:nvPr/>
        </p:nvSpPr>
        <p:spPr>
          <a:xfrm>
            <a:off x="6588000" y="765000"/>
            <a:ext cx="1513080" cy="1584360"/>
          </a:xfrm>
          <a:prstGeom prst="plus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hok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588000" y="765000"/>
            <a:ext cx="14306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das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516720" y="765000"/>
            <a:ext cx="14270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haar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88000" y="836640"/>
            <a:ext cx="142740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588000" y="836640"/>
            <a:ext cx="14353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zon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516720" y="765000"/>
            <a:ext cx="142704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42920" y="3573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57336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40000" y="357336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6000" y="2924280"/>
            <a:ext cx="30240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Arial"/>
              </a:rPr>
              <a:t>hek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588000" y="765000"/>
            <a:ext cx="1435320" cy="14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3:51:27Z</dcterms:created>
  <dc:creator>s.heuvelman</dc:creator>
  <dc:description/>
  <dc:language>en-US</dc:language>
  <cp:lastModifiedBy>School</cp:lastModifiedBy>
  <dcterms:modified xsi:type="dcterms:W3CDTF">2008-12-16T11:06:45Z</dcterms:modified>
  <cp:revision>6</cp:revision>
  <dc:subject/>
  <dc:title>Dia 1</dc:title>
</cp:coreProperties>
</file>