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06C-9517-49F2-A642-1A497BC5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B78-4B87-4BA6-8354-502EB2F4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466-4424-4954-8566-575C8D23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F73-4C3C-4B86-8957-8254E7A6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9C7-44D9-4329-A6A1-E1DB760F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B8E-200B-4AFB-BA0E-E8B34008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7CC-A788-40D6-A3C7-FBCCF8BD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E1C-33C8-4BC0-A320-8B4DEE25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825-2ADD-4E09-BAF6-DB7BF3B8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6EA-93CE-4463-B776-02A495F1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7F4-1047-497C-A156-A402504C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33D-650C-4197-A378-2FB0E205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C744-4954-4E70-A470-EA6052D3F89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JL-RECHTS 7">
            <a:hlinkClick r:id="rId1" action="ppaction://hlinksldjump"/>
          </p:cNvPr>
          <p:cNvSpPr/>
          <p:nvPr/>
        </p:nvSpPr>
        <p:spPr>
          <a:xfrm>
            <a:off x="1500120" y="3571920"/>
            <a:ext cx="3214800" cy="11430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ac09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e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gei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2072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o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hoef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28640"/>
            <a:ext cx="14349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hui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9280"/>
            <a:ext cx="1434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juf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9280"/>
            <a:ext cx="1434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e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ke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9280"/>
            <a:ext cx="1434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mui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7000" y="714240"/>
            <a:ext cx="14227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e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zeef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25400"/>
            <a:ext cx="143496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kstvak 6"/>
          <p:cNvSpPr/>
          <p:nvPr/>
        </p:nvSpPr>
        <p:spPr>
          <a:xfrm>
            <a:off x="5786280" y="2857680"/>
            <a:ext cx="292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nauw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23960"/>
            <a:ext cx="14349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bi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4240"/>
            <a:ext cx="14349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dief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30080"/>
            <a:ext cx="143496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auw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2072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kstvak 6"/>
          <p:cNvSpPr/>
          <p:nvPr/>
        </p:nvSpPr>
        <p:spPr>
          <a:xfrm>
            <a:off x="5929200" y="2857680"/>
            <a:ext cx="292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pauw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28640"/>
            <a:ext cx="14349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e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peu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23960"/>
            <a:ext cx="14349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rui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25400"/>
            <a:ext cx="143496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sau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25400"/>
            <a:ext cx="143496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tie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4240"/>
            <a:ext cx="14349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bui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9280"/>
            <a:ext cx="1434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tu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4240"/>
            <a:ext cx="14349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ui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4240"/>
            <a:ext cx="14349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ij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vijf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7480"/>
            <a:ext cx="143496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we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9280"/>
            <a:ext cx="1434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mu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23960"/>
            <a:ext cx="14349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zaa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23960"/>
            <a:ext cx="14349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e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zei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9280"/>
            <a:ext cx="1434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IJL-RECHTS 7">
            <a:hlinkClick r:id="rId1" action="ppaction://hlinksldjump"/>
          </p:cNvPr>
          <p:cNvSpPr/>
          <p:nvPr/>
        </p:nvSpPr>
        <p:spPr>
          <a:xfrm>
            <a:off x="1500120" y="3571920"/>
            <a:ext cx="3214800" cy="11430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ac09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us 8">
            <a:hlinkClick r:id="" action="ppaction://hlinkshowjump?jump=endshow"/>
          </p:cNvPr>
          <p:cNvSpPr/>
          <p:nvPr/>
        </p:nvSpPr>
        <p:spPr>
          <a:xfrm>
            <a:off x="6572160" y="642960"/>
            <a:ext cx="1643040" cy="1785960"/>
          </a:xfrm>
          <a:prstGeom prst="pie">
            <a:avLst/>
          </a:prstGeom>
          <a:solidFill>
            <a:srgbClr val="fac090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oo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boo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20720"/>
            <a:ext cx="14349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e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teil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4240"/>
            <a:ext cx="14349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wieg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9280"/>
            <a:ext cx="1434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duif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0880" y="714240"/>
            <a:ext cx="14349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kstvak 3"/>
          <p:cNvSpPr/>
          <p:nvPr/>
        </p:nvSpPr>
        <p:spPr>
          <a:xfrm>
            <a:off x="928800" y="3714840"/>
            <a:ext cx="142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5"/>
          <p:cNvSpPr/>
          <p:nvPr/>
        </p:nvSpPr>
        <p:spPr>
          <a:xfrm>
            <a:off x="3786120" y="364320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dui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2320" y="714240"/>
            <a:ext cx="14320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kstvak 4"/>
          <p:cNvSpPr/>
          <p:nvPr/>
        </p:nvSpPr>
        <p:spPr>
          <a:xfrm>
            <a:off x="2143080" y="3643200"/>
            <a:ext cx="18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e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6"/>
          <p:cNvSpPr/>
          <p:nvPr/>
        </p:nvSpPr>
        <p:spPr>
          <a:xfrm>
            <a:off x="5929200" y="2857680"/>
            <a:ext cx="2786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  <a:ea typeface="Arial"/>
              </a:rPr>
              <a:t>e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Documents and Settings\Sjanie\Mijn documenten\Kiezel en Kei\VLL\plaatjes\kern 6\big.jpg"/>
          <p:cNvPicPr/>
          <p:nvPr/>
        </p:nvPicPr>
        <p:blipFill>
          <a:blip r:embed="rId1"/>
          <a:stretch/>
        </p:blipFill>
        <p:spPr>
          <a:xfrm>
            <a:off x="6508800" y="714240"/>
            <a:ext cx="14191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2:17:13Z</dcterms:created>
  <dc:creator>Sjanie</dc:creator>
  <dc:description/>
  <dc:language>en-US</dc:language>
  <cp:lastModifiedBy>Sjanie</cp:lastModifiedBy>
  <dcterms:modified xsi:type="dcterms:W3CDTF">2009-01-23T12:54:59Z</dcterms:modified>
  <cp:revision>4</cp:revision>
  <dc:subject/>
  <dc:title>Dia 1</dc:title>
</cp:coreProperties>
</file>