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370D-61BD-41E2-8D27-A8DAFFC32450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230B-79EF-41B3-B4D4-4BC087A780C0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0DCC-8FDF-421F-81C2-F46988FBF4A5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92E-B60A-4965-A279-82536665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168-428D-4EC3-83B4-FB7FA974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8CC-E6B7-427A-913F-9656D37D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29F-9C84-4575-A736-33BC905D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423-7660-4374-BBF8-E9A44E6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55D-864D-4E60-AF48-B0EFC627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0B6-3B1A-4914-9BE6-D6A20EEA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89C-0604-4551-A96A-68FFC634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9CA-EB81-4CB5-A5DC-D5042DB3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165-DD9C-440E-A5B2-C8E4B0A6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355-CDA5-4F41-8AFB-EAD62BF1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6E3-1B77-4077-839D-C04A2316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9907-68D4-4A28-8B07-34AD9D87F8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000"/>
            </a:br>
            <a:r>
              <a:rPr b="0" lang="nl-NL" sz="4000" spc="-1" strike="noStrike">
                <a:solidFill>
                  <a:srgbClr val="66ff33"/>
                </a:solidFill>
                <a:latin typeface="Arial"/>
              </a:rPr>
              <a:t>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ijd 3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ern 1 t/m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 rot="5400000">
            <a:off x="2411640" y="1340280"/>
            <a:ext cx="4392720" cy="424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Eva</cp:lastModifiedBy>
  <dcterms:modified xsi:type="dcterms:W3CDTF">2014-09-04T12:44:43Z</dcterms:modified>
  <cp:revision>22</cp:revision>
  <dc:subject/>
  <dc:title>Flitsletters</dc:title>
</cp:coreProperties>
</file>