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848-1245-4710-ACCD-8C507D12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3ED2-55AA-4177-BF00-9E95CC91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CC9-196D-49FC-9751-02571469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EB48-37C4-4CFE-B295-17357C76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BC2B-3AC3-4AC3-ABF3-62A102F4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6B77-5E55-42CE-AA83-5B02352B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623-8837-4793-9F32-EF86DC8C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61A-7545-431B-8706-BC7676C9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BD2-2057-4088-B2C7-26937153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E36-1DFB-4D7C-864E-6CAFBFF6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0A5-0B3D-42C9-A6C3-D80EC39E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C68-0A8E-48A7-A790-2B1C3FE5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E482-1303-4C95-A273-4137BF6F6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itsletters</a:t>
            </a:r>
            <a:br>
              <a:rPr sz="4000"/>
            </a:br>
            <a:r>
              <a:rPr b="0" lang="en-US" sz="4000" spc="-1" strike="noStrike">
                <a:solidFill>
                  <a:srgbClr val="66ff33"/>
                </a:solidFill>
                <a:latin typeface="Arial"/>
              </a:rPr>
              <a:t>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jd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k op F5 om het programma te st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Br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314172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ilig leren le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rn 1 t/m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530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84464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1197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5400000">
            <a:off x="2483640" y="2564640"/>
            <a:ext cx="4392720" cy="18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 rot="5400000">
            <a:off x="2411640" y="2059560"/>
            <a:ext cx="4392720" cy="280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92360" y="1557360"/>
            <a:ext cx="57592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 rot="5400000">
            <a:off x="2411280" y="1988640"/>
            <a:ext cx="432144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80000" y="1268280"/>
            <a:ext cx="1657080" cy="437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j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5400000">
            <a:off x="2339280" y="206028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 rot="5400000">
            <a:off x="2375640" y="1303560"/>
            <a:ext cx="4392720" cy="432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5400000">
            <a:off x="2484360" y="1988640"/>
            <a:ext cx="417528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 rot="5400000">
            <a:off x="2412000" y="3140640"/>
            <a:ext cx="43196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 rot="5400000">
            <a:off x="2410920" y="198900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2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17:06:12Z</dcterms:created>
  <dc:creator>Uw gebruikersnaam</dc:creator>
  <dc:description/>
  <dc:language>en-US</dc:language>
  <cp:lastModifiedBy>Uw gebruikersnaam</cp:lastModifiedBy>
  <dcterms:modified xsi:type="dcterms:W3CDTF">2007-08-20T19:02:53Z</dcterms:modified>
  <cp:revision>22</cp:revision>
  <dc:subject/>
  <dc:title>Flitsletters</dc:title>
</cp:coreProperties>
</file>