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68D-A62D-4087-8053-FDCE8DFF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EF6-5BD1-47C3-AF66-F7D72C47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AD1-2E28-4615-956D-9A4DCE30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7C3-A974-4116-A8C4-CC809F8B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423-56E1-487F-B6E0-8A015102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884-0621-4E6A-95C8-33D441A5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2E4-C28D-4780-BA34-4A359BAE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0DA-C815-40CF-BAD7-F45292EC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8AA-8AF5-4C39-80C0-272E083C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B92-0451-44EE-A140-1E6EDDBB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3E7-F006-43B1-89C9-8F079E8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353-CDE3-4625-9165-4357A45F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3ADA-426A-4D33-AC41-455D1F030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itsletters</a:t>
            </a:r>
            <a:br>
              <a:rPr sz="4000"/>
            </a:b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jd 1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k op F5 om het programma te st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Br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3141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ilig leren le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 1 t/m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530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1197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2483640" y="2564640"/>
            <a:ext cx="439272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5400000">
            <a:off x="2411640" y="2059560"/>
            <a:ext cx="4392720" cy="28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360" y="1557360"/>
            <a:ext cx="5759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 rot="5400000">
            <a:off x="2411280" y="1988640"/>
            <a:ext cx="432144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80000" y="1268280"/>
            <a:ext cx="1657080" cy="437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5400000">
            <a:off x="2339280" y="2060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2484360" y="1988640"/>
            <a:ext cx="417528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2412000" y="3140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2410920" y="198900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7:06:12Z</dcterms:created>
  <dc:creator>Uw gebruikersnaam</dc:creator>
  <dc:description/>
  <dc:language>en-US</dc:language>
  <cp:lastModifiedBy>Uw gebruikersnaam</cp:lastModifiedBy>
  <dcterms:modified xsi:type="dcterms:W3CDTF">2007-08-20T19:03:50Z</dcterms:modified>
  <cp:revision>24</cp:revision>
  <dc:subject/>
  <dc:title>Flitsletters</dc:title>
</cp:coreProperties>
</file>