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72A-396A-4EA6-9ECF-9836EFE4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6BB-A464-48DB-842F-FF995AAF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391-B7FF-4DCA-B463-745E096F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ABB-0D5E-4D47-9506-19766143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8DF-D4AB-407A-9893-DE3A35D7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86A-EBF2-4C0E-933F-DB66C8D0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8E8-0BBD-4661-84E2-E2D3771A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852-18D1-4D7B-A46B-D76DC530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7E0-B290-4306-82A9-5B62F7D0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BDC-D292-448C-9431-06C040E6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596-9719-42CC-9C44-FBD27E0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139-9C8B-4C0E-8689-B3EE72C8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3EC1-7B70-431B-9DF0-FFD269A4A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tsletters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jd 4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k op F5 om het programma te st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Br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3141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ilig leren le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 1 t/m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530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1197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2483640" y="2564640"/>
            <a:ext cx="439272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5400000">
            <a:off x="2411640" y="2059560"/>
            <a:ext cx="4392720" cy="28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360" y="1557360"/>
            <a:ext cx="5759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 rot="5400000">
            <a:off x="2411280" y="1988640"/>
            <a:ext cx="432144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80000" y="1268280"/>
            <a:ext cx="1657080" cy="437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5400000">
            <a:off x="2339280" y="2060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5400000">
            <a:off x="2374920" y="1952280"/>
            <a:ext cx="4321440" cy="29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2374920" y="2024640"/>
            <a:ext cx="43214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 rot="5400000">
            <a:off x="2122560" y="270900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763640" y="836640"/>
            <a:ext cx="575964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2366640" y="3112920"/>
            <a:ext cx="4392720" cy="70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03640" y="1268280"/>
            <a:ext cx="2808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92360" y="907920"/>
            <a:ext cx="575928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59280" y="1268280"/>
            <a:ext cx="2879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2484360" y="1988640"/>
            <a:ext cx="417528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2412000" y="3140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2410920" y="198900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7:06:12Z</dcterms:created>
  <dc:creator>Uw gebruikersnaam</dc:creator>
  <dc:description/>
  <dc:language>en-US</dc:language>
  <cp:lastModifiedBy>Uw gebruikersnaam</cp:lastModifiedBy>
  <dcterms:modified xsi:type="dcterms:W3CDTF">2007-08-20T19:05:42Z</dcterms:modified>
  <cp:revision>26</cp:revision>
  <dc:subject/>
  <dc:title>Flitsletters</dc:title>
</cp:coreProperties>
</file>