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737E-CC46-431B-9C59-1AFD2F7E6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FB81-A02A-4474-B670-A9186758F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F4A2-84A9-41AF-B6B5-A3100B48B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28EA-B63E-4938-8DB5-519B7A945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29F6-F8D8-4DC6-8789-24852A0D4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9E9B-12F8-46FC-AB11-D4E3D1254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7AFA-8941-4D68-8EE9-C1D7A3362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11FF-D29C-496A-AF59-BB00B5B83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78C7-13D4-4486-90E9-D365CA476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71CA-033A-4A8D-878A-69E325470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4118-FC33-4E71-8394-4287CD974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9921-E71D-4A3D-A498-8492F7A0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58482-D076-4D5D-A2CE-87C067FFC4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00280"/>
            <a:ext cx="777240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itsletters</a:t>
            </a:r>
            <a:br>
              <a:rPr sz="4400"/>
            </a:br>
            <a:r>
              <a:rPr b="0" lang="en-US" sz="4400" spc="-1" strike="noStrike">
                <a:solidFill>
                  <a:srgbClr val="66ff33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jd 3 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k op F5 om het programma te star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. Br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3141720"/>
            <a:ext cx="48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eilig leren lez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ern 1 t/m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5300640"/>
            <a:ext cx="457200" cy="9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32000" y="1844640"/>
            <a:ext cx="914400" cy="914400"/>
          </a:xfrm>
          <a:prstGeom prst="sun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948360" y="119700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 rot="5400000">
            <a:off x="2483640" y="2564640"/>
            <a:ext cx="4392720" cy="1800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t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1258920" y="1268280"/>
            <a:ext cx="6553080" cy="432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ee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 rot="5400000">
            <a:off x="2411640" y="2059560"/>
            <a:ext cx="4392720" cy="2809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n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 rot="5400000">
            <a:off x="2375640" y="2024280"/>
            <a:ext cx="4392720" cy="2880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b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1692360" y="1557360"/>
            <a:ext cx="5759280" cy="37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oo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 rot="5400000">
            <a:off x="2376000" y="2096640"/>
            <a:ext cx="4319640" cy="2808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d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258920" y="1268280"/>
            <a:ext cx="6553080" cy="432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oe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 rot="5400000">
            <a:off x="2411280" y="1988640"/>
            <a:ext cx="4321440" cy="2880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k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3780000" y="1268280"/>
            <a:ext cx="1657080" cy="437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ij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 rot="5400000">
            <a:off x="2339280" y="2060280"/>
            <a:ext cx="4392720" cy="2808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z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 rot="5400000">
            <a:off x="2375640" y="1303560"/>
            <a:ext cx="4392720" cy="4321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m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 rot="5400000">
            <a:off x="2375640" y="2024280"/>
            <a:ext cx="4392720" cy="2880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h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 rot="5400000">
            <a:off x="2375640" y="1303560"/>
            <a:ext cx="4392720" cy="4321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w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 rot="5400000">
            <a:off x="2375640" y="2024280"/>
            <a:ext cx="4392720" cy="2880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o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 rot="5400000">
            <a:off x="2374920" y="1952280"/>
            <a:ext cx="4321440" cy="2952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 rot="5400000">
            <a:off x="2374920" y="2024640"/>
            <a:ext cx="4321440" cy="2808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u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1692360" y="1484280"/>
            <a:ext cx="5759280" cy="38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eu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 rot="5400000">
            <a:off x="2122560" y="2709000"/>
            <a:ext cx="4392720" cy="1368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j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763640" y="836640"/>
            <a:ext cx="5759640" cy="47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ie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 rot="5400000">
            <a:off x="2366640" y="3112920"/>
            <a:ext cx="4392720" cy="703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l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692360" y="1484280"/>
            <a:ext cx="5759280" cy="38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ou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 rot="5400000">
            <a:off x="2376000" y="2096640"/>
            <a:ext cx="4319640" cy="2808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r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1692360" y="1484280"/>
            <a:ext cx="5759280" cy="38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uu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3203640" y="1268280"/>
            <a:ext cx="2808360" cy="432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g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1692360" y="907920"/>
            <a:ext cx="5759280" cy="482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ui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692360" y="1484280"/>
            <a:ext cx="5759280" cy="38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u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3059280" y="1268280"/>
            <a:ext cx="2879640" cy="432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f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1979640" y="765000"/>
            <a:ext cx="5040360" cy="511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ei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 rot="5400000">
            <a:off x="2484360" y="1988640"/>
            <a:ext cx="4175280" cy="2880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93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v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 rot="5400000">
            <a:off x="2412000" y="3140640"/>
            <a:ext cx="4319640" cy="72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i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 rot="5400000">
            <a:off x="2410920" y="1989000"/>
            <a:ext cx="4392720" cy="2808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243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258920" y="1268280"/>
            <a:ext cx="6553080" cy="432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a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 rot="5400000">
            <a:off x="2375640" y="2024280"/>
            <a:ext cx="4392720" cy="2880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p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 rot="5400000">
            <a:off x="2376000" y="2096640"/>
            <a:ext cx="4319640" cy="2808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e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9T17:06:12Z</dcterms:created>
  <dc:creator>Uw gebruikersnaam</dc:creator>
  <dc:description/>
  <dc:language>en-US</dc:language>
  <cp:lastModifiedBy>Uw gebruikersnaam</cp:lastModifiedBy>
  <dcterms:modified xsi:type="dcterms:W3CDTF">2007-08-20T19:06:16Z</dcterms:modified>
  <cp:revision>24</cp:revision>
  <dc:subject/>
  <dc:title>Flitsletters</dc:title>
</cp:coreProperties>
</file>