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A3E2-A137-4789-9663-1ABBCE28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08B-9EA1-48C3-BAEF-266541D9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526-494F-42D3-8213-3D8CC960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984-0EB4-48B0-88F6-87871EE0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E03-1BFB-4D20-A2BE-949EC304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2B2-C18D-42FF-9DB2-14A6B933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941-0F53-45E4-8117-B6C47F53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D11-ECB2-4C5A-B12D-AF940D3B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2B6-0618-4914-8C74-510C20F2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3BA-7FB2-402E-A352-D2EB1F2D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48E-443B-4AEC-959E-F9308364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C6B-B94C-4A5F-A7EA-6110F45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B0DA-B92C-469D-B300-EA7FB6C19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jd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B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 1 t/m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5400000">
            <a:off x="2374920" y="1952280"/>
            <a:ext cx="4321440" cy="29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2374920" y="2024640"/>
            <a:ext cx="43214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5400000">
            <a:off x="2122560" y="270900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63640" y="836640"/>
            <a:ext cx="575964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2366640" y="3112920"/>
            <a:ext cx="4392720" cy="7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03640" y="1268280"/>
            <a:ext cx="2808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92360" y="907920"/>
            <a:ext cx="575928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59280" y="1268280"/>
            <a:ext cx="2879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Uw gebruikersnaam</cp:lastModifiedBy>
  <dcterms:modified xsi:type="dcterms:W3CDTF">2007-08-20T19:08:18Z</dcterms:modified>
  <cp:revision>23</cp:revision>
  <dc:subject/>
  <dc:title>Flitsletters</dc:title>
</cp:coreProperties>
</file>