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B43-86D5-4596-A977-0D078EF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E9A-E7FD-4FD4-BE6C-B0907E2A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646-14A1-44CF-B3F2-78D28C56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A6E-63CC-4771-B79F-4816EB36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9D5-1C39-4148-BEC2-F3EB52A8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688-5445-4D7A-BE8D-4F5FE1DC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EEF-985F-46A7-8F57-F82B615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943-01DA-4B00-A241-30A9449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D80-2C06-45B1-8292-E5DC9596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A97-D149-445A-BD62-C2E21FE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30C-8F41-4855-8550-A5FD1C72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D82-8913-4914-A9D9-18E33D6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79F-7B68-4683-B49C-4A906E86C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1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8:48Z</dcterms:modified>
  <cp:revision>22</cp:revision>
  <dc:subject/>
  <dc:title>Flitsletters</dc:title>
</cp:coreProperties>
</file>