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C9B3-182A-481D-AFCC-7E29F0A1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DCBB-A52A-4148-B53F-22498407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796A-0680-4499-B92E-856D0893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1597-B363-4A84-8D09-3846D103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60B-DEB2-4F22-AD93-55F39BDF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BB0C-DBC5-462F-9C28-00CED2AB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D995-E7B6-4154-9334-35AF1E8A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398-2631-4D2C-B43F-749C6057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9EA3-4BB5-4264-910F-FC53370A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758D-95D9-48DE-ABCD-56A3D29F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5EC7-00C6-44AC-8659-BEF34070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E7D-6D46-49D3-BFAD-403D9F43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128F-E1BA-4D1D-81B7-2C531BC98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itsletters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jd 4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k op F5 om het programma te sta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Br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314172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ilig leren le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rn 1 t/m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530064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844640"/>
            <a:ext cx="914400" cy="9144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1197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 rot="5400000">
            <a:off x="2483640" y="2564640"/>
            <a:ext cx="4392720" cy="18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 rot="5400000">
            <a:off x="2411640" y="2059560"/>
            <a:ext cx="4392720" cy="280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b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92360" y="1557360"/>
            <a:ext cx="57592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 rot="5400000">
            <a:off x="2411280" y="1988640"/>
            <a:ext cx="432144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k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80000" y="1268280"/>
            <a:ext cx="1657080" cy="437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j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5400000">
            <a:off x="2339280" y="206028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z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 rot="5400000">
            <a:off x="2375640" y="1303560"/>
            <a:ext cx="4392720" cy="432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h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 rot="5400000">
            <a:off x="2375640" y="1303560"/>
            <a:ext cx="4392720" cy="432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w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 rot="5400000">
            <a:off x="2374920" y="1952280"/>
            <a:ext cx="4321440" cy="295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 rot="5400000">
            <a:off x="2374920" y="2024640"/>
            <a:ext cx="43214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 rot="5400000">
            <a:off x="2122560" y="2709000"/>
            <a:ext cx="439272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j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763640" y="836640"/>
            <a:ext cx="5759640" cy="47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 rot="5400000">
            <a:off x="2366640" y="3112920"/>
            <a:ext cx="4392720" cy="70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o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203640" y="1268280"/>
            <a:ext cx="280836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g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692360" y="907920"/>
            <a:ext cx="5759280" cy="482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u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692360" y="1484280"/>
            <a:ext cx="57592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u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059280" y="1268280"/>
            <a:ext cx="2879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f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979640" y="765000"/>
            <a:ext cx="5040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79640" y="765000"/>
            <a:ext cx="5040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ch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979640" y="1197000"/>
            <a:ext cx="5040360" cy="51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g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979640" y="765000"/>
            <a:ext cx="5040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nk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79640" y="765000"/>
            <a:ext cx="504036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ht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 rot="5400000">
            <a:off x="2484360" y="1988640"/>
            <a:ext cx="417528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 rot="5400000">
            <a:off x="2412000" y="3140640"/>
            <a:ext cx="43196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i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 rot="5400000">
            <a:off x="2410920" y="198900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24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258920" y="1268280"/>
            <a:ext cx="655308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a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 rot="5400000">
            <a:off x="2375640" y="2024280"/>
            <a:ext cx="4392720" cy="288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p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 rot="5400000">
            <a:off x="2376000" y="2096640"/>
            <a:ext cx="4319640" cy="280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17:06:12Z</dcterms:created>
  <dc:creator>Uw gebruikersnaam</dc:creator>
  <dc:description/>
  <dc:language>en-US</dc:language>
  <cp:lastModifiedBy>Uw gebruikersnaam</cp:lastModifiedBy>
  <dcterms:modified xsi:type="dcterms:W3CDTF">2007-08-20T19:09:17Z</dcterms:modified>
  <cp:revision>26</cp:revision>
  <dc:subject/>
  <dc:title>Flitsletters</dc:title>
</cp:coreProperties>
</file>