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A06-FE7A-4D23-9B55-B4EBCF04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46F-F506-41DC-847B-F9A4D57C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DDA-030A-40F1-8CCA-3B46078B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0A4-EA4B-466C-94F9-78259B48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0E5-0A85-4E75-9B96-4B6F8159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5DE-A956-461F-BD2D-FB460EE2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C3D-A3F5-426B-B230-7ABAA622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C88-6F66-4B48-90C8-248DF859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620-E20E-47F8-B976-14EC811F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2B1-3C3F-478C-AFE3-CC98BF32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AD4-C938-4758-BE78-D27E552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52B-D0B8-4B79-B4F6-005D801B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D412-6F13-4836-8760-01C0D9988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3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5400000">
            <a:off x="2374920" y="1952280"/>
            <a:ext cx="4321440" cy="29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2374920" y="2024640"/>
            <a:ext cx="43214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2122560" y="270900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63640" y="836640"/>
            <a:ext cx="57596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2366640" y="3112920"/>
            <a:ext cx="4392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03640" y="1268280"/>
            <a:ext cx="2808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907920"/>
            <a:ext cx="575928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9280" y="1268280"/>
            <a:ext cx="2879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c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979640" y="1197000"/>
            <a:ext cx="5040360" cy="51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h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09:50Z</dcterms:modified>
  <cp:revision>27</cp:revision>
  <dc:subject/>
  <dc:title>Flitsletters</dc:title>
</cp:coreProperties>
</file>