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F6E-A694-4A9D-AA92-A361A0BF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646-0753-4119-8955-492B1303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BC6-9F2D-44EB-9295-B5706885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638-B513-4E67-A898-4DF709A0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4EE-DF3B-4410-B3DC-70F9260B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B52-9E37-4152-B907-6C12B903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619-BA27-4055-B37A-6FD4F685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AAD-1414-4173-A91E-3B90503E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E37-1BD2-4330-A7EB-F80C837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F65-A83E-4E29-8467-2F92EAA1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7C2-A59C-4BF5-92BF-AFBE67C9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866-380F-4A62-8EA9-381ED7C2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456-2653-4C8D-A37E-D86A8516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79640" y="1197000"/>
            <a:ext cx="504036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h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10:25Z</dcterms:modified>
  <cp:revision>28</cp:revision>
  <dc:subject/>
  <dc:title>Flitsletters</dc:title>
</cp:coreProperties>
</file>