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7A3-6434-4F3C-9D07-AAED84E3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F19-C9FC-4EE6-B19F-B8458152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9D8-57C9-4251-A7F5-B0720820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1D6-F881-40BD-9D8C-8B6587DF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D0E-4AA9-4CBA-BD6E-8A05D9BE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E61D-4F45-4073-8B06-E8F663D9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3CE-D0B9-4FC7-89C2-4BCB0A40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FD8-47F0-4433-AE1A-538D6E9F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C58-9066-4966-9695-8F6F3974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D9E-7452-4E88-BE0F-47BF1E74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620-FB2F-4E98-AB26-568551EF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F728-3282-49E6-A127-FF6EFCEA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0E6F-2033-4613-A192-3F7950B6A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itsletters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jd 1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k op F5 om het programma te st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Br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3141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ilig leren le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rn 1 t/m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530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4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1197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2483640" y="2564640"/>
            <a:ext cx="439272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5400000">
            <a:off x="2411640" y="2059560"/>
            <a:ext cx="4392720" cy="280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360" y="1557360"/>
            <a:ext cx="5759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 rot="5400000">
            <a:off x="2411280" y="1988640"/>
            <a:ext cx="432144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80000" y="1268280"/>
            <a:ext cx="1657080" cy="437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5400000">
            <a:off x="2339280" y="2060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5400000">
            <a:off x="2374920" y="1952280"/>
            <a:ext cx="4321440" cy="29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2374920" y="2024640"/>
            <a:ext cx="43214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 rot="5400000">
            <a:off x="2122560" y="270900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763640" y="836640"/>
            <a:ext cx="575964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2366640" y="3112920"/>
            <a:ext cx="4392720" cy="70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03640" y="1268280"/>
            <a:ext cx="2808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92360" y="907920"/>
            <a:ext cx="575928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59280" y="1268280"/>
            <a:ext cx="2879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ch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979640" y="1197000"/>
            <a:ext cx="5040360" cy="51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g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h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2484360" y="1988640"/>
            <a:ext cx="417528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400000">
            <a:off x="2412000" y="3140640"/>
            <a:ext cx="4319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2410920" y="198900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7:06:12Z</dcterms:created>
  <dc:creator>Uw gebruikersnaam</dc:creator>
  <dc:description/>
  <dc:language>en-US</dc:language>
  <cp:lastModifiedBy>Uw gebruikersnaam</cp:lastModifiedBy>
  <dcterms:modified xsi:type="dcterms:W3CDTF">2007-08-20T19:10:55Z</dcterms:modified>
  <cp:revision>30</cp:revision>
  <dc:subject/>
  <dc:title>Flitsletters</dc:title>
</cp:coreProperties>
</file>