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006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2EC-F9E0-4FDB-B0F1-9A08C33E0644}" type="slidenum">
              <a:rPr b="0" lang="nl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2C2C-906D-4E04-A619-747C467F4B46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3CEB-3001-49C8-91D2-D8A90462B15F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680E-2E26-4748-9D88-891B01E70E63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28E6-8BCC-4A08-AFB0-C5FB515FC8CB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B67-6AA6-401C-A774-091922F22F5C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B69-F6F2-4370-B5B0-CB7F24DCD14A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2950-01BA-4948-9C5A-A603DB000B5E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5089-88E2-41B7-944B-48BDF122DF6F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F9A-4085-4B36-BCCD-F9B7E37EEE8C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045-B163-49F6-8C69-A5892E37B69F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090-57ED-4666-9F66-B4138A18E67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7CFE-85BF-4CE7-B186-02AAA93C7437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464-E1C2-4A2B-9809-0670B4435871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0797-833A-4036-A4E2-B24E39EB3532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8E38-4093-461E-A682-EA79027B9E8E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7BA-D699-4E03-9B47-494232DFD961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46D8-4E59-4588-A629-AB34F9410C2E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A7AD-6B93-4216-AC63-E6233DF81561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2539-8503-4D37-BE40-98F4953B412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95D-05F8-4567-8815-9596A66A4120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14F-1CA4-47F7-B66C-863E4C0C173E}" type="slidenum">
              <a:rPr b="0" lang="nl-BE" sz="1200" spc="-1" strike="noStrike">
                <a:solidFill>
                  <a:srgbClr val="5f0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70E-E44A-42CA-9560-F1B29023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715-2D10-4BF5-9331-976D75E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EC98-83B8-44AF-B6BF-257EA784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4C8-4B0F-4479-A61B-29329E62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11-0660-4F8D-84FA-953416BD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ECA-01EF-437A-8620-91629C05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E43-4A7C-4D5A-8F20-DD16B4C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99A6-0CD4-4BED-9D6B-F925C1E5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E70-B2E6-49F3-8A0C-DACAE65C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CCD-778E-4C95-899C-17FF148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351-D1DF-4A53-BA3D-A609EE3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742-D61B-41CA-AE04-E4CC0AC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0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f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5f0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5f0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5f0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0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9d899d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d899d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9d899d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19B-31FB-4E40-B418-D5AD5C987D33}" type="slidenum">
              <a:rPr b="0" lang="en-GB" sz="1200" spc="-1" strike="noStrike">
                <a:solidFill>
                  <a:srgbClr val="9d89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ja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eu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iet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w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woon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n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nou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uu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e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ee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h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hout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da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ie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lee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403280" y="62064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0000"/>
                </a:solidFill>
                <a:latin typeface="Century Gothic"/>
              </a:rPr>
              <a:t>einde</a:t>
            </a:r>
            <a:endParaRPr b="0" lang="en-US" sz="9600" spc="-1" strike="noStrike">
              <a:solidFill>
                <a:srgbClr val="5f0060"/>
              </a:solidFill>
              <a:latin typeface="Calibri"/>
            </a:endParaRPr>
          </a:p>
        </p:txBody>
      </p:sp>
      <p:pic>
        <p:nvPicPr>
          <p:cNvPr id="89" name="Picture 2" descr="https://encrypted-tbn1.gstatic.com/images?q=tbn:ANd9GcQ5N_h2qy-zU2mKKgm92PHzGFybdo6hbLTlCkXO_nIvSYq0z96c4Q"/>
          <p:cNvPicPr/>
          <p:nvPr/>
        </p:nvPicPr>
        <p:blipFill>
          <a:blip r:embed="rId1"/>
          <a:stretch/>
        </p:blipFill>
        <p:spPr>
          <a:xfrm>
            <a:off x="2755800" y="2389320"/>
            <a:ext cx="3632400" cy="36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zien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m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muu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ou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735200" y="4179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bal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274840" y="11844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1735200" y="41529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ies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2197080" y="98100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735200" y="416556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rij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197080" y="96696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657440" y="416556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5f0060"/>
                </a:solidFill>
                <a:latin typeface="Century Gothic"/>
              </a:rPr>
              <a:t>kou</a:t>
            </a:r>
            <a:endParaRPr b="0" lang="en-US" sz="8800" spc="-1" strike="noStrike">
              <a:solidFill>
                <a:srgbClr val="5f006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3:38:09Z</dcterms:created>
  <dc:creator>Eyda</dc:creator>
  <dc:description/>
  <dc:language>en-US</dc:language>
  <cp:lastModifiedBy>Eva</cp:lastModifiedBy>
  <dcterms:modified xsi:type="dcterms:W3CDTF">2014-09-04T12:08:00Z</dcterms:modified>
  <cp:revision>11</cp:revision>
  <dc:subject/>
  <dc:title>PowerPoint Presentation</dc:title>
</cp:coreProperties>
</file>