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006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5AE2-3711-4EDF-9E40-1A7565BD0C53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6F3C-3935-48F6-97E9-94D1E2EA83E8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7B0-E3CD-40DB-8612-658D6E33DF31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37D3-D479-4C86-A2FF-8413C1C7F26C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7596-68AB-4EA0-A3E7-14C0BF13D250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2BC6-070B-4DA2-AB74-6FDA64705596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10E3-6587-4AB7-9DBA-24EB3CB17325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B9AC-216B-4C3D-80CC-A35BBB140067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C057-5440-4514-BD7F-BDF237DC3E10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15CA-7479-4B8B-96B6-73B23BBF2CAC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43A1-381F-4C47-A101-0A51BB148A10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6AC9-EFE5-4B1B-9009-A32B32F70813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EE7E-C8D4-4865-80C1-7E8C349E693A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EA6F-5714-4C96-A2AE-B09D9CFC9D0A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3EA9-6B92-40CE-B50B-D0C0FA969CA5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D6FE-8B71-434E-AD7F-356C3A3108AF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8EE9-340B-4902-B77A-FC494AA51B3E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CE68-7A81-4EA7-9AEB-4E84F78525CB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7016-2133-44AD-A480-FFF41B25D8CD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27AE-EC72-47D0-A9E5-309226AFBD6A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3CE0-D1D1-4F62-A816-BB803B038D74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4FFF-A605-471E-9CEF-63A2ADE0FDB4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110-ECFC-4718-9992-DA55D1CA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4D4-C4DF-4498-9F06-52C5161A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DCA-2C56-4882-9C64-0A075B6B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DF8-64B7-4AFE-8D34-001BCA7B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633-F4DF-4C92-9562-3FC21FC5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2FA-309C-4DF8-8D65-440E7A4F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3AF-01D5-41AA-BE0D-005886B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EE4-17C2-43D7-BF4E-B1067A62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A8C-CE3E-49A4-A6F0-250A58CC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5BB-A46B-4396-AAB7-E4A2E6DC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823-FE0D-428C-9445-E5BF49EE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24C-E3E0-4B39-87B7-B9D58C8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0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f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f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f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5f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5f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9d899d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d899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9d899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9D39-AA8B-4FDC-B9B1-9DAB5B83306D}" type="slidenum">
              <a:rPr b="0" lang="en-GB" sz="1200" spc="-1" strike="noStrike">
                <a:solidFill>
                  <a:srgbClr val="9d89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iet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735200" y="4179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o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ie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out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el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735200" y="4179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am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u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eu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u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835280" y="418608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oop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p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pijl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j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735200" y="4179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jaa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uu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403280" y="62064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0000"/>
                </a:solidFill>
                <a:latin typeface="Century Gothic"/>
              </a:rPr>
              <a:t>einde</a:t>
            </a:r>
            <a:endParaRPr b="0" lang="en-US" sz="9600" spc="-1" strike="noStrike">
              <a:solidFill>
                <a:srgbClr val="5f0060"/>
              </a:solidFill>
              <a:latin typeface="Calibri"/>
            </a:endParaRPr>
          </a:p>
        </p:txBody>
      </p:sp>
      <p:pic>
        <p:nvPicPr>
          <p:cNvPr id="89" name="Picture 2" descr="https://encrypted-tbn1.gstatic.com/images?q=tbn:ANd9GcQ5N_h2qy-zU2mKKgm92PHzGFybdo6hbLTlCkXO_nIvSYq0z96c4Q"/>
          <p:cNvPicPr/>
          <p:nvPr/>
        </p:nvPicPr>
        <p:blipFill>
          <a:blip r:embed="rId1"/>
          <a:stretch/>
        </p:blipFill>
        <p:spPr>
          <a:xfrm>
            <a:off x="2755800" y="2389320"/>
            <a:ext cx="3632400" cy="36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eu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w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wiel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iem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735200" y="4179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u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a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t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tien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j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jo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3:38:09Z</dcterms:created>
  <dc:creator>Eyda</dc:creator>
  <dc:description/>
  <dc:language>en-US</dc:language>
  <cp:lastModifiedBy>Eva</cp:lastModifiedBy>
  <dcterms:modified xsi:type="dcterms:W3CDTF">2014-09-04T12:09:10Z</dcterms:modified>
  <cp:revision>11</cp:revision>
  <dc:subject/>
  <dc:title>PowerPoint Presentation</dc:title>
</cp:coreProperties>
</file>